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25B-1B2F-45D9-A893-B24EA9CC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997-5B35-434C-94E3-FC73B30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C09-FDC0-4022-92D2-49E9A008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9A2-4E29-4B36-83F1-AEF84211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019-3B05-4397-A13B-E8DED64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566-3C55-456D-BE97-E9A240D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14A-5D60-4E93-96A8-8728A24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316-EE52-4AED-9DD4-785A3B8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E35-45E2-4DFB-B9A7-1C7C6B7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7E1-1EA4-452F-AF67-7EE28573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A38-E07A-48E3-AE09-5B283A3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529-81BC-41C8-89A9-279BFDA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8B9-93DE-493E-87CD-E9C04284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kezelé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SQL szerver átteki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QLServerAgent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Server programmal együttműködve létrehozza és kezeli a helyi vagy több kiszolgálós feladatokat, riasztásokat és operátor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DTC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ővé teszi, hogy az ügyfelek több különböző adatforrást egyetlen tranzakcióba foglaljan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MS DTC koordinálja a megfelelő végrehajtást, biztosítva, hogy a frissítés minden kiszolgálón tartós leg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icrosoft Search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olgáltatás motor a teljes szövegben való keresésh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ővé teszi a karakter típusú adatok lekérdezés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mint a hozzájuk tartozó indexek létrehozását és kezel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SQL Server szoft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QL Server Enterprise Manager mmc mo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SQL szerver felügyeleti ügyfélprogram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ügyeleti eszközök és varázs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Client Configruta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gítségével konfigurálhatók az ügyfél kommunikációs összetevő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Performance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jeleníthető a legfrissebb tevékenység és teljesítmény statisz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Pro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amatosan rögzíti a kiszolgáló tevékenység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Query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rafikus lekérdezési eszköz , menynek segítségével elemezhető a lekérések t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ervi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olgáltatások kezelésé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lepítésre és konfigurálás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ncssori kezelőeszközö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édprogram, mely ODBC segítségével kommunikál a kiszolgálóval. Elsősorban parancsfájlok végrehajtására haszná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tegel segédprogram, segítségével az adatok a kiszolgálóra importálhatók, illetve arról exportál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2409840"/>
          <a:ext cx="2089440" cy="192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09840"/>
                    <a:ext cx="208944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516720" y="2205000"/>
          <a:ext cx="1558800" cy="19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2205000"/>
                    <a:ext cx="155880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2411280" y="4508640"/>
            <a:ext cx="2232000" cy="1295280"/>
          </a:xfrm>
          <a:custGeom>
            <a:avLst/>
            <a:gdLst>
              <a:gd name="textAreaLeft" fmla="*/ 866880 w 2232000"/>
              <a:gd name="textAreaRight" fmla="*/ 1969200 w 2232000"/>
              <a:gd name="textAreaTop" fmla="*/ 840960 h 1295280"/>
              <a:gd name="textAreaBottom" fmla="*/ 1143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565"/>
                </a:moveTo>
                <a:lnTo>
                  <a:pt x="14022" y="16565"/>
                </a:lnTo>
                <a:lnTo>
                  <a:pt x="14022" y="8391"/>
                </a:lnTo>
                <a:lnTo>
                  <a:pt x="11479" y="8391"/>
                </a:lnTo>
                <a:lnTo>
                  <a:pt x="16540" y="0"/>
                </a:lnTo>
                <a:lnTo>
                  <a:pt x="21600" y="8391"/>
                </a:lnTo>
                <a:lnTo>
                  <a:pt x="19057" y="8391"/>
                </a:lnTo>
                <a:lnTo>
                  <a:pt x="19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ábláz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508640"/>
            <a:ext cx="2089440" cy="1295280"/>
          </a:xfrm>
          <a:custGeom>
            <a:avLst/>
            <a:gdLst>
              <a:gd name="textAreaLeft" fmla="*/ 811800 w 2089440"/>
              <a:gd name="textAreaRight" fmla="*/ 1843560 w 2089440"/>
              <a:gd name="textAreaTop" fmla="*/ 840960 h 1295280"/>
              <a:gd name="textAreaBottom" fmla="*/ 1143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565"/>
                </a:moveTo>
                <a:lnTo>
                  <a:pt x="14022" y="16565"/>
                </a:lnTo>
                <a:lnTo>
                  <a:pt x="14022" y="8391"/>
                </a:lnTo>
                <a:lnTo>
                  <a:pt x="11479" y="8391"/>
                </a:lnTo>
                <a:lnTo>
                  <a:pt x="16540" y="0"/>
                </a:lnTo>
                <a:lnTo>
                  <a:pt x="21600" y="8391"/>
                </a:lnTo>
                <a:lnTo>
                  <a:pt x="19057" y="8391"/>
                </a:lnTo>
                <a:lnTo>
                  <a:pt x="19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fol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78136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kalma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213000"/>
            <a:ext cx="165600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tbázis felü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364500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860640"/>
            <a:ext cx="165600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42900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Open Data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2997360"/>
            <a:ext cx="1656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zolgá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ma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kalmazásokat az adatbázis-alkalmazások programozási felületeinek segítségével fejlesz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mmunikáció az SQL Server kiszolgálóval az alkalmazás szempontjából a használt protokolltól függetlenül törté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ázis felü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ítségével az alkalmazás kéréseket küld a kiszolgálónak, majd feldolgozza a visszaadott eredmény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lózati függvény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munikációs szoftverösszetevő , mely becsomagolja az adatbázis kéréseket és azok eredményeit, és a megfelelő protokoll segítségével továbbítja az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két félnél telepíteni kell egy hálózati függvénytá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Net-Library függvénytárat is lehet egyidőben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SQl Server támogatja a TCP/IP, a Named Pipes, a Novell IPX/SPX, a Banyan VINES/IP vagy az AppelTalk ADSP protokoll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áci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áblázott adatfoly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DS egy alkalmazásszintű protok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DS csomagok beágyazódnak a hálózati függvénytárak által használt protokollverem számára készített hálózati csomago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n Dat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az összetevő kezeli a hálózati kapcso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felügye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4365720"/>
          <a:ext cx="16686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4365720"/>
                    <a:ext cx="16686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68360" y="1413000"/>
            <a:ext cx="2016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tegel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édprogra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565360"/>
            <a:ext cx="4608360" cy="503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Distrubuted Managem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413000"/>
            <a:ext cx="2808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nterpris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1413000"/>
            <a:ext cx="1440000" cy="936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-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ktumok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ználó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kalmaz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013360"/>
            <a:ext cx="2087640" cy="50472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QL Server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335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SQL Server ismerte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1700280"/>
          <a:ext cx="158148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700280"/>
                    <a:ext cx="15814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QL Server egy ügyfél-kiszolgáló típusú,relációs adatbázis kezelő rendszer, mely a Transact-SQL nyelv segítségével továbbítja a lekérdezéseket az ügyfél és a kiszolgáló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27640" y="1773360"/>
          <a:ext cx="1008360" cy="128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773360"/>
                    <a:ext cx="100836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71640" y="2637000"/>
            <a:ext cx="3240360" cy="576000"/>
          </a:xfrm>
          <a:prstGeom prst="rightArrow">
            <a:avLst>
              <a:gd name="adj1" fmla="val 50000"/>
              <a:gd name="adj2" fmla="val 14064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3168720" cy="576000"/>
          </a:xfrm>
          <a:prstGeom prst="leftArrow">
            <a:avLst>
              <a:gd name="adj1" fmla="val 50000"/>
              <a:gd name="adj2" fmla="val 1375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edmény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felügyel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QL Server felügyel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egelt segéd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afikus felügyeleti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M- kompatibilis alkalmazások (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QL-D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rejti a Transact-SQL utasítások részle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rver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asztás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esí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 végrehaj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szörözés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ztonsági funkci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jelentkezési hiteles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délyérvényes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jelentkezési hiteles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Ql Server hitel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SQL Server rendszergazdája egy SQL Server bejelentkezési fiókot és jelszót defin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használóknak mindkettőt meg kell adniuk a csatlakozás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ndows NT hitel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Windows fiók vagy csoport szabályozza a felhasználók a kiszolgálóhoz történő hozzáférés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tlakozáskor nem kell SQL Server bejelentkezési fiókot mega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szergazdának érvényes SQL Server bejelentkezési fiókként kell definiálnia a Windows fiókot illetve csopor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telesítési mó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ndows hitelesítési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gyes 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bázis-felhasználói fiók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ztonság engedélyek alkalmazásához használt fiók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ázis függ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hetővé teszik, hogy bizonyos felhasználókat egyetlen olyan egységbe foglaljuk, melyhez engedélyeket rendelhetü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ögzített kiszolgáló-szerep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-létrehozók (dbcre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mez rendszergazdák (disk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lyamat-rendszergazdák (process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védelmi rendszergazdák (security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 rendszergazdák (server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epítő rendszergazdák (setup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szergazdák (sysad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bázis-felhasználói fiókok és szerepkör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gzített adatbázis-szerepkörö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access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dl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security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backup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ata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ata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enydata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b_denydata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délyérvényes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35280" y="3141720"/>
          <a:ext cx="110628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141720"/>
                    <a:ext cx="1106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67280" y="2997360"/>
          <a:ext cx="1243080" cy="15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997360"/>
                    <a:ext cx="124308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203640" y="3429000"/>
            <a:ext cx="792000" cy="720720"/>
          </a:xfrm>
          <a:prstGeom prst="rightArrow">
            <a:avLst>
              <a:gd name="adj1" fmla="val 50000"/>
              <a:gd name="adj2" fmla="val 2747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370000">
            <a:off x="5292360" y="3212640"/>
            <a:ext cx="1584360" cy="36036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741000">
            <a:off x="5292720" y="4005360"/>
            <a:ext cx="1584360" cy="36036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4941720"/>
            <a:ext cx="2449440" cy="503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elect * fro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4508640"/>
            <a:ext cx="1728720" cy="107928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SQL Serv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lenőrzi az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4076640"/>
            <a:ext cx="1873080" cy="863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 megfelelő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baüzenetet kü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637000"/>
            <a:ext cx="1800360" cy="647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edélyek rendb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grehajtja 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ncs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szolgálók kétféle adatbázistípussal rendelkez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szer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szer működtetésére és kezelés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használói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lhasználók által létrehozott adatbázi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két típus adatokat tá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használói adatbázisokat és az SQl server műveleteit azok teljességében őrzi, olyan információkat követ nyomon, mint pl. a fiókok ada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új felhasználói adatbázisok sablo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mp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óterület az ideiglenes táblá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mogatja az SQL Server Agent programot, valamint tárolóterület az ütemezési információk és futási napló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öbbszörözésben használt tranzakciós és előzményadatokat tár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adatbázis tanulási cél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adatbázis tanulási cél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s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felhasználó által definiált adatbázist azonos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gyfél-kiszolgáló szerk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rchitektúra lehetővé teszi, hogy a kiszolgáló a feladatot olyan feladatokra bontsa , amelyek egy része a szerveren, másik része meg a kliens gépeken f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gyfél az adatok megjelenítésért és az üzleti logikáért felelős. Az ügyfélprogram 1 vagy több kliensen fut, de futhat szervere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SQL Server kezeli az adatbázisokat és elosztja a rendelkezésre álló kiszolgáló erőforráso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rchitektúra szintén lehetővé teszi, hogy különböző környezetekre fejlesszük ki és telepítsük az alkalmazásokat, melyek a hálózaton keresztül kommunikálnak a kiszolgáló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zzárendelt oszlopokkal rendelkező sorok gyűjteményé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í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álja az adott oszlopban vagy változóban megengedett adatérté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kö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gyes oszlopokban megengedett  értékekkel kapcsolatos szabályoka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pértelmez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téket definiál, mely az adott oszlopban tárolódik, ha nincs más érték megad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információt tárol, mely az adott oszlopban vagy adattípusban tárolt érvényes értéket defini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ási struktúra, mely gyorsítja az adatlekérést, és biztosítja az integrit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gítségével az adatbázis adatai egy vagy több táblából, illetve nézetből tekinthető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szerszintű tárolt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Transact-SQL utasítások elnevezett gyűjteménye, melynek végrehajtása együtt törté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tárolt eljárás, melynek végrehajtása automatikusan megtörténik, ha valamelyik felhasználó módosítja a tábla adat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atkozás SQL Server objektu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jes ne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.adatbázis.tulajdonos.objek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ben megadott ne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zolgáló: a helyi kiszolg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: az aktuális adatbáz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lajdonos: a felhasználónév az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445000"/>
            <a:ext cx="8497800" cy="86364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REATE TABLE northwind.dbo.order_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táblá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endszerrel és az adatbázis objektumaival kapcsolatos, úgynevezett metaadatokat táro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datbázis-katalógus az adott adatbázissal kapcsolatos metaadatokat tár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endszerkatalógus az egész rendszerre és az összes többi adatbázisra vonatkozó metaadatokat tár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szertábl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adatbázis tartalmazza a rendszertáblák gyűjteményét, mely a vonatkozó metaadatokat tár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katalógus, csak a master adatbázisban talál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rendszertábla sys előtaggal kezd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lo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ys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DBMS – Relational Database Manag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bantartja az adatbázis adatai közt fennálló reláció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tosítja az adatok helyes tárolását, vagyis, hogy a relációkat definiáló szabályok ne sérülj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szerhiba esetén az ismert összefüggések szerint visszaállít minden ada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Relációsadatbázis-kezelő rend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ransact-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- Server a Transact-SQL adatbázis-lekérdezési és programozási nyelvet használja, mely a SQL egyik verz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SQL nyelv olyan parancsok halmaza, melyek segítségével megadhatjuk a lehívni vagy módosítani kíván információ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SQL Server és a Microsoft BackOffice integr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02040" y="2924280"/>
          <a:ext cx="122868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924280"/>
                    <a:ext cx="1228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140360" y="1628640"/>
          <a:ext cx="738000" cy="94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1628640"/>
                    <a:ext cx="738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32720" y="2781360"/>
          <a:ext cx="741240" cy="106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2781360"/>
                    <a:ext cx="7412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093080" y="4149720"/>
          <a:ext cx="1603080" cy="21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4149720"/>
                    <a:ext cx="160308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403280" y="3141720"/>
          <a:ext cx="738360" cy="941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141720"/>
                    <a:ext cx="73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51280" y="4941720"/>
          <a:ext cx="738360" cy="941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1280" y="4941720"/>
                    <a:ext cx="73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116000" y="1484280"/>
          <a:ext cx="1495440" cy="1150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1484280"/>
                    <a:ext cx="14954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403280" y="191628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1916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005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 System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agmen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nagyg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42900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2276640"/>
            <a:ext cx="142560" cy="1008000"/>
          </a:xfrm>
          <a:prstGeom prst="upDownArrow">
            <a:avLst>
              <a:gd name="adj1" fmla="val 50000"/>
              <a:gd name="adj2" fmla="val 14075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4292640"/>
            <a:ext cx="215640" cy="936720"/>
          </a:xfrm>
          <a:prstGeom prst="upDownArrow">
            <a:avLst>
              <a:gd name="adj1" fmla="val 50000"/>
              <a:gd name="adj2" fmla="val 864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51640" y="30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3284640"/>
            <a:ext cx="1871640" cy="215640"/>
          </a:xfrm>
          <a:prstGeom prst="leftRightArrow">
            <a:avLst>
              <a:gd name="adj1" fmla="val 50000"/>
              <a:gd name="adj2" fmla="val 1727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1989000"/>
            <a:ext cx="1656000" cy="287640"/>
          </a:xfrm>
          <a:prstGeom prst="leftRightArrow">
            <a:avLst>
              <a:gd name="adj1" fmla="val 50000"/>
              <a:gd name="adj2" fmla="val 114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229360"/>
            <a:ext cx="2521080" cy="360360"/>
          </a:xfrm>
          <a:prstGeom prst="leftRightArrow">
            <a:avLst>
              <a:gd name="adj1" fmla="val 50000"/>
              <a:gd name="adj2" fmla="val 1392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SQL Server és a Microsoft BackOffice integrá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etővé teszi, hogy az SQL Server internetes ügyfelekkel kommunikálj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hetővé teszi, hogy a szerver elektronikus üzeneteket küldjön pl. hiba esetén. Az SQL Server üzenetekbe ágyazott lekérdezésekre is válaszol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szerhálózati architektúra protokollt futtató IBM környezeteket kapcsolja össze a PC-alapú hálózato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ámítógépes szoftvereket, hardvereket, leltárakat kezel, és az adatbázisát tárolja az SQL Ser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olgáltatás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SSQL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kérdezések és tranzakciók feldolg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integri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QLServer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iasz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Distributed Transaction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osztott tranzakciók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szöveges katalógu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jes szöveges index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SSQLServer szolgál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bázis motorja. Ez az összetevő dolgozza fel az összes Transact-SQL utasítást, és kezeli a kiszolgálón található adatbázisok valamennyi fajtáj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osztja a számítógép erőforrásait az egyidejűleg dolgozó felhasználók kö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előzi a logikai problémákat, pl. nem engedi, hogy ugyanazon adatokat egyidejűleg több felhasználó is frissí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tosítja az adatok konzisztenciáját, és integritá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6:12:35Z</dcterms:created>
  <dc:creator>Nagymáté Péter</dc:creator>
  <dc:description/>
  <dc:language>en-US</dc:language>
  <cp:lastModifiedBy>Nagymáté Péter</cp:lastModifiedBy>
  <dcterms:modified xsi:type="dcterms:W3CDTF">2004-09-09T13:33:48Z</dcterms:modified>
  <cp:revision>23</cp:revision>
  <dc:subject/>
  <dc:title>Adatbázis kezelés II.</dc:title>
</cp:coreProperties>
</file>